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DE86A-9654-4358-A202-CD4AF406A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CF7E-B545-41A0-9634-1C5EC76D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2BB17-5EC3-4823-9E4A-BFC4D25DB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182DA-A81C-4B45-84A9-8314185E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66AF6-EDEF-48B6-90D8-6059B51C6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A2680-1B05-49B3-86C3-9D3928B06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EE3AA-2C8E-4DFF-A9F0-22C5D9A2F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7BF91-F34A-479E-9A47-605D336A6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C8578-09E1-469D-8FA1-7A3B85E0A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10CA4-DBE1-49EC-9D28-A077ED7BD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7E826-7BA5-4578-B958-B1ABA74E6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0C8F-6115-458A-A62A-397CFDA2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2F62A-2125-4D59-B958-54A595FA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D486-39C0-4841-AB70-033A76BCB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5432E-93F2-43BE-8604-5BD7E8814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1C97D-1244-432D-B771-5A8D42063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0F973-A65A-4977-9F51-83CEFD059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FA6FC-6C67-48C6-9724-2B7F0B74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EA642-207F-4A24-8F12-9F3FE7001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5799-9318-4868-A6F7-08380308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8761C-5B6A-4BCF-8C79-8014C81A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15C5-D0EF-4AD5-8DB8-38F3E412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C179-24F2-4B28-BBD3-07FE04FAC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317E-E671-4E60-945E-0398743A1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AD03-005E-406E-A37D-774CED2C1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521B-0A4B-4327-842B-FE9B700D40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 you need to practice because you need to know the words and stuff that you are saying </a:t>
            </a:r>
            <a:endParaRPr b="0" lang="en-US" sz="2600" spc="-1" strike="noStrike">
              <a:solidFill>
                <a:srgbClr val="ffffff"/>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3394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ou just have fun because its not like your singing in front of the whole world so just relax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ro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inique Sibley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A08E-7088-4C3B-AADC-79397EFD7EE0}"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752120"/>
            <a:ext cx="7772400" cy="43434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ll the movie im doing is about poison frogs they are like creature leap far or jump far they lie to eat a lot of fly's and they only live on land and pond but they have little thing called tadpoles that are small there like little fish they are actually little frogs that soon to be frogs but poison frogs are dangerous and they can hurt you or get you sick so that’s all im going to talk about because there not much room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have a good setting like something different from your class is doing </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be great story teller you will need to have good writing prompt and excellent details about what animal you are talking abou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need to have a good introduction when you start your movie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climax were you tell stuff like how the problem or situation get solved in the middle of it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need a good ending to the movie you are making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m how I will get paid is I will probably tell people to put it in movie theaters and then it will become famou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cause it will inform people to look or watch your movi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9:05:47Z</dcterms:created>
  <dc:creator/>
  <dc:description/>
  <dc:language>en-US</dc:language>
  <cp:lastModifiedBy>City School</cp:lastModifiedBy>
  <dcterms:modified xsi:type="dcterms:W3CDTF">2013-02-20T19:32:44Z</dcterms:modified>
  <cp:revision>39</cp:revision>
  <dc:subject/>
  <dc:title>The Pitch-Then-Plan Business Planning Template</dc:title>
</cp:coreProperties>
</file>